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2E92-8060-4C47-98D0-B2D4D52F01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carbon acetyl CoA joins with a 4-carbon compound to form a 6- carbon compound called C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carbon acetyl CoA joins with a 4-carbon compound to form a 6- carbon compound called C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ady to start the cycle onc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rbons removed are released as C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is process called decarbox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e release of hydrogen are called dehydrogen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ady to start the cycle onc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rbons removed are released as C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is process called decarbox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e release of hydrogen are called dehydrogen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enzyme NADH2 transfers hydrogen to a chain of hydrogen carriers called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enzyme NADH2 transfers hydrogen to a chain of hydrogen carriers called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fer of hydrogen from each NADH2 along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cess called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oxidation of glucose yields 38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fer of hydrogen from each NADH2 along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cess called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oxidation of glucose yields 38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led by enzyme cytochrome oxid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led by enzyme cytochrome oxid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9E2A-FAAC-4CCD-B3E0-E7715925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578-6070-44D8-8D49-E8736B04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347F-562B-4315-A874-4CDCC076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B103-D00E-4615-B0BA-8154158F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9FF-BDAE-4ED1-8757-0CE4B2EC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7E31-4012-47B9-8655-95EFBA91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402D-88DC-42CB-87F2-0C3EA981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EAAC-1419-41FF-A31B-E9E76731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45B5-9A10-4380-ACB7-E50B4FE1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947A-5F82-4CF8-B813-6163CFB0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E78-6E2E-489F-A058-F6D5D0B2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D695-4342-47BE-B70C-79674540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CFD9-8E84-4F2E-B555-E737B01B9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-carbon acetyl Co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ins with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-carbon comp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orm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- carbon compou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it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y to start the cycle once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rbons removed are released a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nzymes controlling this process calle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carboxy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nzymes controlling the release of hydrogen are calle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hydrogen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Krebs cycle"/>
          <p:cNvPicPr/>
          <p:nvPr/>
        </p:nvPicPr>
        <p:blipFill>
          <a:blip r:embed="rId1"/>
          <a:stretch/>
        </p:blipFill>
        <p:spPr>
          <a:xfrm>
            <a:off x="826920" y="189000"/>
            <a:ext cx="741708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d coenzyme NAD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ransfers hydrogen to a chain of hydrogen carrier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ytochrom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fer of hydrogen from each NAD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o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ces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lete oxidation of glucose yield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8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The cytochrome system"/>
          <p:cNvPicPr/>
          <p:nvPr/>
        </p:nvPicPr>
        <p:blipFill>
          <a:blip r:embed="rId1"/>
          <a:stretch/>
        </p:blipFill>
        <p:spPr>
          <a:xfrm>
            <a:off x="179280" y="1628640"/>
            <a:ext cx="882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led by enzy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ytochrome oxid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1:39:20Z</dcterms:created>
  <dc:creator>hhashmi</dc:creator>
  <dc:description/>
  <dc:language>en-US</dc:language>
  <cp:lastModifiedBy>RomaK</cp:lastModifiedBy>
  <dcterms:modified xsi:type="dcterms:W3CDTF">2015-09-04T11:07:14Z</dcterms:modified>
  <cp:revision>7</cp:revision>
  <dc:subject/>
  <dc:title>The Krebs Cycle</dc:title>
</cp:coreProperties>
</file>